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C3AF-C152-4020-AAF3-EF6F1ED0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D062-C852-47EA-8932-7BD03872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8822-79DA-463E-BEA9-02C9BEC7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F2EE-1CEA-49F8-911B-67B00AF1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A5DE-9E91-4D78-9585-F3634C32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6B72-F393-4701-BC2A-8A8A38E3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5CC5-0B2D-456B-BEE8-B37060C3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8D95-4679-4E4D-8852-6E8458881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D368-1944-4377-A14E-C0928CAF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564C-8720-4732-B40B-F2F7A07A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519D-6C85-4391-B5C9-C04D6F0A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C601-9F03-453A-94F5-957A7EA4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69A0-FA23-41E1-AC57-1D26EFEA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57C5-F5F4-4FB8-809F-A2B4E7E1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0DC5-5D79-41B4-9D44-1C8D6DE3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EF4C-31E4-4F1A-ABB0-641B61CA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6CA8-1B36-4C8B-A898-EEB0C109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21F8-D929-4230-ABCE-3656C57A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2225-FE64-4392-89D7-8081D69D8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9A7A-8A7D-42EF-BC1B-A698D0C5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9118-0D26-4DD4-B535-0A451CA1D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1B1D-E4AC-4533-B8DD-007108C7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0CFE-EB1E-4A4B-BB43-3A08A4AC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6539-939D-4C1A-8C0C-9CCDC3C9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6896-52FE-4ECE-A30A-3DDE5ABA4E6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 Imagen" descr="ppt50_inici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6 Imagen" descr="ppt50_interna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6 Imagen" descr="ppt50_interna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6 Imagen" descr="ppt50_interna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4"/>
          </p:nvPr>
        </p:nvSpPr>
        <p:spPr>
          <a:xfrm>
            <a:off x="456840" y="62071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5"/>
          </p:nvPr>
        </p:nvSpPr>
        <p:spPr>
          <a:xfrm>
            <a:off x="3124080" y="62071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071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F089-D2EE-4D92-A8D5-18DAAB394799}" type="slidenum">
              <a:rPr b="0" lang="es-ES" sz="10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214200" y="550512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rebuchet MS"/>
              </a:rPr>
              <a:t>Autor de l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rebuchet MS"/>
              </a:rPr>
              <a:t>Present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214200" y="4362480"/>
            <a:ext cx="64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rebuchet MS"/>
              </a:rPr>
              <a:t>Título de la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Trebuchet MS"/>
              </a:rPr>
              <a:t>Present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657216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rebuchet MS"/>
              </a:rPr>
              <a:t>Título de la diapositi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5840" y="1213920"/>
            <a:ext cx="85010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Contenido de la diapositi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Item de lista 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25406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Item de lista 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Item de lista 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9:29:33Z</dcterms:created>
  <dc:creator> </dc:creator>
  <dc:description/>
  <dc:language>en-US</dc:language>
  <cp:lastModifiedBy> </cp:lastModifiedBy>
  <dcterms:modified xsi:type="dcterms:W3CDTF">2010-02-01T14:02:59Z</dcterms:modified>
  <cp:revision>10</cp:revision>
  <dc:subject/>
  <dc:title>Diapositiva 1</dc:title>
</cp:coreProperties>
</file>